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gif" ContentType="image/gif"/>
  <Override PartName="/ppt/media/image6.jpeg" ContentType="image/jpeg"/>
  <Override PartName="/ppt/media/image7.png" ContentType="image/png"/>
  <Override PartName="/ppt/media/image8.jpeg" ContentType="image/jpeg"/>
  <Override PartName="/ppt/media/bomb.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C447A-163A-4C63-BE4B-236AE701A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6D375-F606-4E93-8450-071322DD8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52AA9-5AE0-45E1-86D3-2E2287E6A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92C9A-6ACC-45BF-BB69-F73BB4006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E6335-9297-46C2-AE93-0965B278A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28451-3ECA-4FAD-98E2-F1E24236E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42337-077A-4C1C-B7A4-8F9C040A7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DA39C-BF70-497C-B9CD-2DC1F14A6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2693C-D61A-46BF-9D9D-37C0B5E88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05CD5-1B1A-42AD-87DB-E2C52D633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2D3E7-00C0-4B90-BAE2-4EA3552DB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DD931-D441-4336-B7B7-C59D7EDB3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D078-BA14-4CD0-B36D-813139DD61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animationfactory.com/en/search/close-up.html?&amp;oid=4949067&amp;s=1&amp;sc=1&amp;st=108&amp;q=australia&amp;spage=1&amp;hoid=469db07c9f04889a759287f3827392cd" TargetMode="External"/><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jpeg"/><Relationship Id="rId3" Type="http://schemas.openxmlformats.org/officeDocument/2006/relationships/image" Target="../media/image8.jpeg"/><Relationship Id="rId4" Type="http://schemas.openxmlformats.org/officeDocument/2006/relationships/hyperlink" Target="http://en.wikipedia.org/wiki/Image:Nerrena_Fossickers_in_the_Creek_Nerrena.jpg" TargetMode="External"/><Relationship Id="rId5" Type="http://schemas.openxmlformats.org/officeDocument/2006/relationships/image" Target="../media/image9.jpeg"/><Relationship Id="rId6" Type="http://schemas.openxmlformats.org/officeDocument/2006/relationships/audio" Target="../media/bomb.wav"/><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ff00"/>
            </a:gs>
            <a:gs pos="100000">
              <a:srgbClr val="6666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755640" y="3499920"/>
            <a:ext cx="6400800" cy="1752840"/>
          </a:xfrm>
          <a:prstGeom prst="rect">
            <a:avLst/>
          </a:prstGeom>
          <a:blipFill rotWithShape="0">
            <a:blip r:embed="rId1"/>
            <a:tile tx="0" ty="0" sx="100000" sy="100000" algn="ctr"/>
          </a:blipFill>
          <a:ln w="9360">
            <a:solidFill>
              <a:srgbClr val="000000"/>
            </a:solidFill>
            <a:miter/>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cc"/>
                </a:solidFill>
                <a:latin typeface="Forte"/>
              </a:rPr>
              <a:t>By Lucas Fragale Reyne derrick Alyssa Palamara, Mikayla Ryan and Michaela Mincone</a:t>
            </a:r>
            <a:endParaRPr b="0" lang="en-US" sz="3600" spc="-1" strike="noStrike">
              <a:solidFill>
                <a:srgbClr val="000000"/>
              </a:solidFill>
              <a:latin typeface="Arial"/>
            </a:endParaRPr>
          </a:p>
        </p:txBody>
      </p:sp>
      <p:sp>
        <p:nvSpPr>
          <p:cNvPr id="43" name=""/>
          <p:cNvSpPr txBox="1"/>
          <p:nvPr/>
        </p:nvSpPr>
        <p:spPr>
          <a:xfrm>
            <a:off x="0" y="549360"/>
            <a:ext cx="8856720" cy="2609640"/>
          </a:xfrm>
          <a:prstGeom prst="rect">
            <a:avLst/>
          </a:prstGeom>
        </p:spPr>
        <p:txBody>
          <a:bodyPr wrap="none" lIns="90000" rIns="90000" tIns="46800" bIns="46800" anchor="t" anchorCtr="1">
            <a:prstTxWarp prst="textDoubleWave1">
              <a:avLst>
                <a:gd name="adj1" fmla="val 10319"/>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12600">
                  <a:solidFill>
                    <a:srgbClr val="000000"/>
                  </a:solidFill>
                  <a:miter/>
                </a:ln>
                <a:noFill/>
                <a:effectLst>
                  <a:outerShdw dist="125751" dir="18900000" blurRad="0" rotWithShape="0">
                    <a:srgbClr val="000099"/>
                  </a:outerShdw>
                </a:effectLst>
                <a:latin typeface="Comic Sans MS"/>
              </a:rPr>
              <a:t>GOLD RUSH!!!!</a:t>
            </a:r>
            <a:endParaRPr b="1" i="1" lang="en-US" sz="4400" spc="1" strike="noStrike">
              <a:ln w="12600">
                <a:solidFill>
                  <a:srgbClr val="000000"/>
                </a:solidFill>
                <a:miter/>
              </a:ln>
              <a:noFill/>
              <a:effectLst>
                <a:outerShdw dist="125751" dir="18900000" blurRad="0" rotWithShape="0">
                  <a:srgbClr val="000099"/>
                </a:outerShdw>
              </a:effectLst>
              <a:latin typeface="Comic Sans MS"/>
              <a:ea typeface="Comic Sans MS"/>
            </a:endParaRPr>
          </a:p>
        </p:txBody>
      </p:sp>
    </p:spTree>
  </p:cSld>
  <p:transition spd="slow" advTm="3000">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0.07708 -0.00647 C -0.09045 0.01989 -0.08246 0.04788 -0.08368 0.08257 C -0.08403 0.09344 -0.08976 0.10153 -0.09687 0.10454 C -0.1033 0.11032 -0.11041 0.11517 -0.11805 0.11772 C -0.1434 0.13784 -0.14514 0.12581 -0.19028 0.12396 C -0.19965 0.12281 -0.20486 0.12119 -0.21319 0.11772 C -0.21476 0.11633 -0.21649 0.11448 -0.21805 0.11332 C -0.21979 0.11147 -0.22101 0.1087 -0.22291 0.10685 C -0.22656 0.10338 -0.23073 0.1013 -0.23437 0.09806 C -0.24114 0.08465 -0.23333 0.09829 -0.24601 0.08465 C -0.25208 0.0784 -0.2566 0.06938 -0.26076 0.06083 C -0.26319 0.04788 -0.27066 0.03238 -0.27552 0.01966 C -0.27726 0.01018 -0.28038 0.00417 -0.28368 -0.00439 C -0.2875 -0.037 -0.28889 -0.06961 -0.29184 -0.10291 C -0.29132 -0.11887 -0.29166 -0.13506 -0.29028 -0.15055 C -0.28976 -0.15633 -0.28541 -0.1605 -0.28368 -0.16582 C -0.27969 -0.17853 -0.27552 -0.18894 -0.26719 -0.19634 C -0.25469 -0.22109 -0.21337 -0.21531 -0.1967 -0.216 C -0.17205 -0.22086 -0.16423 -0.2197 -0.13298 -0.21808 C -0.12726 -0.21438 -0.11528 -0.20883 -0.10989 -0.20305 C -0.0934 -0.18478 -0.11441 -0.20744 -0.10173 -0.18987 C -0.1 -0.18732 -0.09705 -0.18594 -0.09514 -0.18316 C -0.0868 -0.17113 -0.07951 -0.15587 -0.07048 -0.14384 C -0.06875 -0.14153 -0.0658 -0.14014 -0.06389 -0.1376 C -0.05139 -0.12095 -0.06632 -0.13529 -0.05434 -0.12442 C -0.04531 -0.10707 -0.05694 -0.12812 -0.04601 -0.11355 C -0.04201 -0.10823 -0.0408 -0.1006 -0.03767 -0.09389 C -0.03576 -0.0858 -0.03316 -0.07909 -0.02951 -0.07215 C -0.02083 -0.02335 -0.02639 0.02221 -0.04427 0.06314 C -0.04722 0.07008 -0.05087 0.07632 -0.05434 0.08257 C -0.05798 0.08997 -0.0592 0.09922 -0.06232 0.10685 C -0.06528 0.11332 -0.07552 0.12188 -0.07552 0.12188 C -0.12587 0.11934 -0.17621 0.11888 -0.22621 0.11332 C -0.23576 0.11078 -0.24479 0.10639 -0.25416 0.10246 C -0.26094 0.09621 -0.27153 0.09112 -0.27708 0.08465 C -0.28837 0.07123 -0.29305 0.05528 -0.3033 0.0414 C -0.30746 0.02567 -0.31094 0.01064 -0.31649 -0.00439 C -0.3217 -0.0333 -0.32882 -0.05966 -0.33125 -0.08973 C -0.32847 -0.20189 -0.33212 -0.12789 -0.32795 -0.17437 C -0.32708 -0.18432 -0.32916 -0.19542 -0.32465 -0.20305 C -0.31892 -0.2123 -0.30486 -0.21531 -0.2967 -0.21808 C -0.28507 -0.22224 -0.2743 -0.22271 -0.2625 -0.22479 C -0.24496 -0.22779 -0.2276 -0.23288 -0.20989 -0.23566 C -0.1908 -0.23496 -0.17153 -0.2345 -0.15243 -0.23335 C -0.1375 -0.23288 -0.11319 -0.22941 -0.1 -0.21808 C -0.09166 -0.21114 -0.08559 -0.2012 -0.07864 -0.19195 C -0.06701 -0.17668 -0.0809 -0.20027 -0.06892 -0.18131 C -0.0618 -0.16975 -0.05677 -0.15749 -0.04774 -0.14847 C -0.03993 -0.12812 -0.04965 -0.15148 -0.03767 -0.13136 C -0.02778 -0.11424 -0.02118 -0.09181 -0.00989 -0.07655 C -0.00364 -0.05273 -0.0066 -0.0666 -0.00989 -0.01318 C -0.01059 -0.00185 -0.01267 0.01665 -0.01962 0.02614 C -0.02604 0.03469 -0.02587 0.03007 -0.03125 0.03932 C -0.04166 0.0569 -0.03298 0.04857 -0.04288 0.05643 C -0.0533 0.07517 -0.06337 0.09066 -0.08194 0.09159 C -0.12187 0.09297 -0.1618 0.09297 -0.20173 0.09344 C -0.22465 0.10916 -0.20989 0.10246 -0.24757 0.10014 C -0.25885 0.09667 -0.26927 0.09066 -0.28038 0.08719 C -0.28802 0.08025 -0.29271 0.06938 -0.2967 0.05875 C -0.3 0.03816 -0.30816 0.02174 -0.31319 0.00208 C -0.31632 -0.02335 -0.32535 -0.04509 -0.32951 -0.07007 C -0.33194 -0.08441 -0.33333 -0.09921 -0.33941 -0.11147 C -0.34062 -0.12049 -0.34271 -0.12904 -0.34427 -0.1376 C -0.34375 -0.14685 -0.34444 -0.15656 -0.34271 -0.16582 C -0.33854 -0.18709 -0.31545 -0.19704 -0.30173 -0.20305 C -0.28437 -0.21808 -0.26979 -0.22039 -0.25087 -0.22941 C -0.24288 -0.23288 -0.23611 -0.23866 -0.22795 -0.24213 C -0.22048 -0.24977 -0.21389 -0.25208 -0.20486 -0.25532 C -0.18767 -0.25393 -0.17135 -0.25162 -0.15416 -0.24861 C -0.14548 -0.24306 -0.13715 -0.23982 -0.12812 -0.23566 C -0.12031 -0.22941 -0.11267 -0.22224 -0.10486 -0.216 C -0.10173 -0.21322 -0.09514 -0.20744 -0.09514 -0.20698 C -0.09028 -0.1975 -0.08194 -0.18987 -0.07552 -0.18131 C -0.07239 -0.17668 -0.06719 -0.1746 -0.06389 -0.17021 C -0.06024 -0.16582 -0.05746 -0.16003 -0.05434 -0.15471 C -0.05312 -0.15263 -0.05243 -0.15009 -0.05087 -0.14847 C -0.04722 -0.14315 -0.04323 -0.13829 -0.03941 -0.13321 C -0.03663 -0.12951 -0.03281 -0.12026 -0.03281 -0.11979 C -0.02778 -0.09227 -0.03073 -0.02798 -0.04601 0.00208 C -0.04896 0.01897 -0.05573 0.03469 -0.06232 0.05019 C -0.06771 0.06245 -0.07083 0.07493 -0.07708 0.08719 C -0.0816 0.09621 -0.09305 0.09806 -0.1 0.10014 C -0.11076 0.10338 -0.12066 0.10986 -0.13125 0.11332 C -0.15312 0.11263 -0.175 0.11263 -0.1967 0.11101 C -0.20399 0.11078 -0.20937 0.10084 -0.21649 0.09806 C -0.22066 0.0895 -0.22587 0.08881 -0.23125 0.08257 C -0.23628 0.07725 -0.24149 0.07123 -0.24601 0.06522 C -0.25017 0.05412 -0.25521 0.04649 -0.26076 0.03701 C -0.27378 0.01434 -0.26128 0.03192 -0.27222 0.01712 C -0.2842 -0.01433 -0.26666 0.0303 -0.28038 0.00208 C -0.28125 -3.58926999999981E-006 -0.2809 -0.00254 -0.28194 -0.00439 C -0.29462 -0.0296 -0.28038 0.00602 -0.29028 -0.01757 C -0.29444 -0.02752 -0.29861 -0.03746 -0.30173 -0.0481 C -0.30295 -0.05249 -0.30295 -0.05735 -0.30486 -0.06151 C -0.31337 -0.0784 -0.31996 -0.09967 -0.32291 -0.12026 C -0.32222 -0.15009 -0.33142 -0.18755 -0.3066 -0.19634 C -0.27795 -0.22178 -0.27153 -0.2123 -0.22465 -0.21369 C -0.22291 -0.21438 -0.22135 -0.216 -0.21962 -0.216 C -0.18854 -0.216 -0.15729 -0.21299 -0.12639 -0.21161 C -0.11701 -0.2086 -0.11007 -0.20212 -0.10173 -0.19634 C -0.09687 -0.18709 -0.09097 -0.17877 -0.08368 -0.17229 C -0.07969 -0.16142 -0.07291 -0.15587 -0.06719 -0.14639 C -0.05885 -0.13251 -0.05139 -0.11817 -0.04288 -0.10476 C -0.0368 -0.09574 -0.03767 -0.09112 -0.02951 -0.08325 C -0.02135 -0.06151 -0.0184 -0.03538 -0.00816 -0.01526 C -0.00607 -0.00693 -0.00451 0.000699999999999999 -0.00173 0.00856 C -0.00312 0.02706 -0.00069 0.03354 -0.01319 0.03932 C -0.0191 0.04533 -0.02448 0.05019 -0.03125 0.05458 C -0.03524 0.06268 -0.04045 0.06545 -0.04601 0.07193 C -0.05729 0.08465 -0.06458 0.09205 -0.07864 0.09575 C -0.08698 0.10407 -0.09531 0.10639 -0.10486 0.11101 C -0.11562 0.11656 -0.12344 0.12581 -0.13437 0.12859 C -0.14705 0.13992 -0.14028 0.13645 -0.15416 0.13946 C -0.16632 0.14755 -0.17708 0.14917 -0.19028 0.15264 C -0.20416 0.14894 -0.20243 0.14478 -0.21146 0.13298 C -0.21285 0.1309 -0.2151 0.13044 -0.21649 0.12859 C -0.22066 0.12258 -0.22378 0.11448 -0.22795 0.1087 C -0.22951 0.10685 -0.2316 0.10477 -0.23281 0.10246 C -0.23524 0.09829 -0.23941 0.08927 -0.23941 0.0895 C -0.2441 0.06938 -0.25382 0.05134 -0.26076 0.03284 C -0.26701 0.01642 -0.26163 0.02729 -0.2658 0.01319 C -0.26996 -0.00185 -0.27864 -0.01503 -0.28524 -0.02844 C -0.28993 -0.03816 -0.29028 -0.04926 -0.29514 -0.05897 C -0.29705 -0.06753 -0.29965 -0.07377 -0.3033 -0.08071 C -0.30486 -0.08973 -0.30677 -0.09667 -0.30989 -0.10476 C -0.31337 -0.13367 -0.31753 -0.16697 -0.30486 -0.19195 C -0.30173 -0.20952 -0.29531 -0.22155 -0.28194 -0.22687 C -0.26736 -0.22548 -0.25382 -0.21854 -0.23941 -0.21808 C -0.1967 -0.21669 -0.15416 -0.21669 -0.11146 -0.216 C -0.10607 -0.20883 -0.10052 -0.20791 -0.09514 -0.2012 C -0.08854 -0.19172 -0.08489 -0.18316 -0.07552 -0.17877 C -0.06632 -0.16674 -0.05729 -0.15518 -0.04601 -0.14639 C -0.03993 -0.13575 -0.03333 -0.12511 -0.02621 -0.11563 C -0.02274 -0.10175 -0.01493 -0.08973 -0.00989 -0.07655 C -0.00937 -0.07308 -0.00885 -0.06915 -0.00816 -0.06545 C -0.00712 -0.05966 -0.00486 -0.0481 -0.00486 -0.04787 C -0.00712 -0.00185 -0.01215 0.02614 -0.03281 0.06314 C -0.03507 0.07239 -0.03819 0.07517 -0.04288 0.08257 C -0.05746 0.10685 -0.04844 0.1013 -0.07378 0.10454 C -0.07899 0.10569 -0.08333 0.11078 -0.08854 0.11101 C -0.11146 0.11286 -0.13472 0.10777 -0.15764 0.10685 C -0.18541 0.09852 -0.21337 0.09459 -0.24097 0.08465 C -0.24809 0.07794 -0.25503 0.07401 -0.2625 0.06753 C -0.26389 0.06615 -0.26719 0.06314 -0.26719 0.06337 C -0.27656 0.04441 -0.26389 0.06753 -0.27552 0.0525 C -0.27795 0.04926 -0.27951 0.04441 -0.28194 0.0414 C -0.28385 0.03886 -0.28646 0.03701 -0.28854 0.03469 C -0.29375 0.02914 -0.29687 0.02105 -0.30173 0.01527 C -0.30816 -0.00185 -0.31458 -0.01942 -0.31962 -0.03723 C -0.32656 -0.06198 -0.3276 -0.09435 -0.33125 -0.12026 C -0.33073 -0.13621 -0.3309 -0.15194 -0.32951 -0.1679 C -0.32934 -0.17067 -0.32708 -0.17206 -0.32621 -0.17437 C -0.31944 -0.19102 -0.31371 -0.20767 -0.30486 -0.22248 C -0.30382 -0.22641 -0.30347 -0.23011 -0.30173 -0.23335 C -0.30052 -0.23566 -0.29826 -0.23589 -0.2967 -0.23774 C -0.28559 -0.25115 -0.27639 -0.26225 -0.2625 -0.27058 C -0.2559 -0.27451 -0.24774 -0.27844 -0.24097 -0.28168 C -0.23767 -0.28307 -0.23125 -0.28584 -0.23125 -0.28561 C -0.21684 -0.28515 -0.19635 -0.287 -0.18194 -0.27705 C -0.17552 -0.27266 -0.17031 -0.26595 -0.16389 -0.26179 C -0.15833 -0.25832 -0.15156 -0.2567 -0.14618 -0.253 C -0.13958 -0.24861 -0.13472 -0.24375 -0.12812 -0.24005 C -0.12153 -0.23635 -0.11666 -0.23011 -0.10989 -0.22687 C -0.09809 -0.21531 -0.08871 -0.19842 -0.07864 -0.18316 C -0.06684 -0.16582 -0.05729 -0.14847 -0.04774 -0.12904 C -0.04305 -0.11956 -0.02986 -0.09551 -0.02795 -0.08742 C -0.02587 -0.07955 -0.02309 -0.07261 -0.01962 -0.06545 C -0.0158 -0.04972 -0.00903 -0.03538 -0.00486 -0.01989 C -0.00538 -0.00578 -0.00434 0.00833 -0.0066 0.02174 C -0.00729 0.02567 -0.01944 0.03238 -0.02135 0.03284 C -0.03229 0.03446 -0.04323 0.03423 -0.05434 0.03469 C -0.06719 0.04325 -0.07951 0.05227 -0.0934 0.05875 C -0.10121 0.06846 -0.10798 0.06638 -0.11493 0.08025 C -0.11805 0.08742 -0.12482 0.1013 -0.12812 0.10454 C -0.13003 0.10685 -0.13212 0.10916 -0.13437 0.11101 C -0.13767 0.11425 -0.14427 0.11957 -0.14427 0.12003 C -0.16111 0.11841 -0.17153 0.11656 -0.18698 0.11332 C -0.19392 0.11032 -0.20173 0.1087 -0.20816 0.10454 C -0.21406 0.1006 -0.21649 0.09436 -0.22291 0.09159 C -0.22465 0.08997 -0.22621 0.08858 -0.22795 0.08719 C -0.23003 0.08557 -0.23246 0.08442 -0.23437 0.08257 C -0.23785 0.08002 -0.24427 0.07401 -0.24427 0.07401 C -0.24722 0.06892 -0.24965 0.06383 -0.2526 0.05875 C -0.25399 0.05597 -0.25746 0.05019 -0.25746 0.05042 C -0.26059 0.03238 -0.26423 0.01712 -0.27378 0.00417 C -0.27864 -0.01387 -0.27031 0.01527 -0.28194 -0.01526 C -0.28941 -0.03515 -0.28576 -0.02752 -0.29184 -0.03931 C -0.2967 -0.05897 -0.30382 -0.07724 -0.30989 -0.0962 C -0.31302 -0.10592 -0.31302 -0.11656 -0.31476 -0.12673 C -0.31788 -0.145 -0.32205 -0.16327 -0.32621 -0.18131 C -0.32569 -0.18478 -0.32639 -0.18987 -0.32465 -0.19195 C -0.32326 -0.19426 -0.32031 -0.19334 -0.31805 -0.19403 C -0.29913 -0.19935 -0.31597 -0.1938 -0.30173 -0.19842 C -0.29166 -0.20513 -0.28107 -0.21299 -0.27048 -0.21808 C -0.2625 -0.22224 -0.25416 -0.22479 -0.24601 -0.22941 C -0.23941 -0.23774 -0.24271 -0.23566 -0.23281 -0.24005 C -0.22951 -0.24167 -0.22621 -0.24306 -0.22291 -0.24445 C -0.22135 -0.24514 -0.21805 -0.24653 -0.21805 -0.2463 C -0.20486 -0.24583 -0.19184 -0.2456 -0.17864 -0.24445 C -0.16927 -0.24352 -0.15104 -0.24005 -0.15104 -0.23982 C -0.12934 -0.21854 -0.11562 -0.19056 -0.1 -0.16142 C -0.09514 -0.15217 -0.08906 -0.14431 -0.08368 -0.13529 C -0.07708 -0.12419 -0.06753 -0.10592 -0.0592 -0.1006 C -0.05607 -0.08811 -0.04774 -0.08117 -0.04114 -0.07215 C -0.03628 -0.0666 -0.03333 -0.0555 -0.02951 -0.0481 C -0.02222 -0.01711 -0.02361 -0.00555 -0.02795 0.03932 C -0.02899 0.05042 -0.04288 0.06036 -0.04774 0.06522 C -0.06528 0.08233 -0.06927 0.08349 -0.09184 0.08719 C -0.09774 0.0895 -0.10191 0.09344 -0.10833 0.09575 C -0.11736 0.10523 -0.1125 0.1013 -0.12465 0.10685 C -0.12639 0.10754 -0.12951 0.1087 -0.12951 0.1087 C -0.15416 0.10824 -0.17882 0.10986 -0.2033 0.10685 C -0.20729 0.10639 -0.20989 0.10084 -0.21319 0.09806 C -0.22187 0.08997 -0.23212 0.08742 -0.24097 0.08025 C -0.24809 0.07493 -0.25312 0.06846 -0.26076 0.06522 C -0.26267 0.06245 -0.27847 0.04418 -0.28038 0.03932 C -0.28455 0.02822 -0.2816 0.03238 -0.28854 0.02614 C -0.29357 0.01295 -0.30278 0.00278 -0.30989 -0.00878 C -0.31128 -0.0111 -0.31337 -0.01295 -0.31476 -0.01526 C -0.31719 -0.01942 -0.32135 -0.02844 -0.32135 -0.02844 C -0.32291 -0.03723 -0.32621 -0.0444 -0.32795 -0.05249 C -0.3309 -0.0666 -0.33298 -0.07955 -0.33437 -0.09389 C -0.33576 -0.12627 -0.33767 -0.14061 -0.33437 -0.17229 C -0.33351 -0.18131 -0.32621 -0.18987 -0.32291 -0.19634 C -0.31302 -0.21739 -0.30035 -0.23589 -0.28194 -0.24445 C -0.26962 -0.26087 -0.2493 -0.25693 -0.23281 -0.25994 C -0.21423 -0.25994 -0.19548 -0.2604 -0.17708 -0.2574 C -0.16736 -0.25578 -0.15642 -0.23358 -0.14618 -0.22941 C -0.14166 -0.22548 -0.13767 -0.22086 -0.13298 -0.21808 C -0.13003 -0.21669 -0.12726 -0.21577 -0.12465 -0.21369 C -0.12118 -0.21114 -0.11094 -0.20051 -0.1066 -0.19634 C -0.10139 -0.19125 -0.09566 -0.18802 -0.09028 -0.18316 C -0.08264 -0.1679 -0.08698 -0.17322 -0.07864 -0.16582 C -0.06962 -0.14986 -0.06163 -0.13251 -0.05087 -0.11794 C -0.04844 -0.10569 -0.04601 -0.10707 -0.03941 -0.09829 C -0.03385 -0.0777 -0.03889 -0.05342 -0.02951 -0.03492 C -0.02778 -0.01896 -0.02257 -0.00624 -0.01805 0.00856 C -0.01857 0.02336 -0.01649 0.03816 -0.01962 0.0525 C -0.0217 0.06129 -0.03663 0.06221 -0.04114 0.06314 C -0.04531 0.06545 -0.05017 0.06615 -0.05434 0.06938 C -0.05607 0.07123 -0.05729 0.07447 -0.0592 0.07609 C -0.06528 0.08141 -0.07361 0.08418 -0.08038 0.08927 C -0.08646 0.09344 -0.09462 0.10361 -0.10173 0.10454 C -0.11493 0.10569 -0.12812 0.10592 -0.14097 0.10685 C -0.14653 0.11055 -0.15156 0.11448 -0.15764 0.11772 C -0.18177 0.11541 -0.20746 0.11425 -0.23125 0.10685 C -0.24601 0.09344 -0.25798 0.07285 -0.27552 0.06753 C -0.28142 0.06221 -0.28524 0.05643 -0.29184 0.0525 C -0.29514 0.04788 -0.29913 0.04441 -0.30173 0.03932 C -0.30538 0.03146 -0.30573 0.02706 -0.31146 0.02174 C -0.31406 0.0118 -0.32014 -0.00855 -0.32465 -0.01757 C -0.32673 -0.0296 -0.32969 -0.04047 -0.33125 -0.05249 C -0.33385 -0.07354 -0.33125 -0.06151 -0.33437 -0.07423 C -0.3375 -0.11054 -0.34166 -0.14986 -0.32135 -0.17668 C -0.31875 -0.18709 -0.31198 -0.19172 -0.30486 -0.19634 C -0.30035 -0.19935 -0.29635 -0.20421 -0.29184 -0.20744 C -0.28246 -0.21346 -0.27222 -0.21808 -0.2625 -0.22248 C -0.25712 -0.22479 -0.25295 -0.23034 -0.24757 -0.23219 C -0.23611 -0.23311 -0.21319 -0.23566 -0.21319 -0.23543 C -0.17864 -0.25 -0.16753 -0.23219 -0.14097 -0.22248 C -0.13541 -0.21739 -0.12812 -0.21554 -0.12291 -0.20952 C -0.11371 -0.19842 -0.10382 -0.18432 -0.09687 -0.17021 C -0.0934 -0.16373 -0.09114 -0.1561 -0.08698 -0.15055 C -0.08368 -0.14639 -0.07708 -0.1376 -0.07708 -0.13737 C -0.075 -0.12951 -0.07083 -0.12766 -0.06719 -0.12026 C -0.06337 -0.1043 -0.06632 -0.11031 -0.0592 -0.1006 C -0.05503 -0.08487 -0.04965 -0.06799 -0.04288 -0.05458 C -0.03715 -0.01248 -0.03854 -0.02867 -0.04288 0.05458 C -0.04288 0.0569 -0.05017 0.06638 -0.05087 0.06753 C -0.06458 0.0821 -0.07969 0.09852 -0.09687 0.10454 C -0.11979 0.11957 -0.17517 0.10939 -0.19028 0.1087 C -0.20139 0.10431 -0.21024 0.09436 -0.22135 0.09159 C -0.22291 0.08997 -0.22465 0.08835 -0.22621 0.08719 C -0.22951 0.08534 -0.23611 0.08257 -0.23611 0.08257 C -0.24288 0.07332 -0.25139 0.06638 -0.2592 0.05875 C -0.26649 0.05134 -0.26962 0.0414 -0.27708 0.03469 C -0.28212 0.02452 -0.28715 0.0148 -0.29184 0.00417 C -0.29288 -0.00138 -0.29253 -0.00809 -0.29514 -0.01318 C -0.29826 -0.01942 -0.30607 -0.03145 -0.30816 -0.03931 C -0.31337 -0.05851 -0.31875 -0.07608 -0.32135 -0.0962 C -0.32205 -0.1154 -0.32864 -0.1561 -0.31649 -0.17229 C -0.31597 -0.17437 -0.3151 -0.17668 -0.31476 -0.17877 C -0.31406 -0.18524 -0.31476 -0.19264 -0.31319 -0.19842 C -0.3125 -0.20143 -0.31007 -0.20328 -0.30816 -0.20513 C -0.29739 -0.21623 -0.28541 -0.22155 -0.27222 -0.22479 C -0.25746 -0.23774 -0.24826 -0.23219 -0.22621 -0.23335 C -0.2066 -0.23288 -0.1868 -0.23288 -0.16719 -0.23219 C -0.15434 -0.23057 -0.14618 -0.21808 -0.13437 -0.21369 C -0.12847 -0.20582 -0.12118 -0.20004 -0.11319 -0.19634 C -0.10781 -0.19149 -0.10139 -0.18501 -0.09687 -0.17877 C -0.09149 -0.17183 -0.08854 -0.16466 -0.08194 -0.15911 C -0.07656 -0.14523 -0.0658 -0.12442 -0.05573 -0.11563 C -0.05156 -0.10499 -0.04826 -0.09921 -0.04114 -0.09181 C -0.0375 -0.07215 -0.04288 -0.09227 -0.03437 -0.07863 C -0.03212 -0.07516 -0.0316 -0.06961 -0.02951 -0.06545 C -0.02552 -0.05781 -0.02048 -0.05134 -0.01649 -0.04371 C -0.01215 -0.03584 -0.01059 -0.02451 -0.00816 -0.01526 C -0.00868 -0.00439 -0.00903 0.00671 -0.00989 0.01712 C -0.01007 0.02036 -0.01024 0.02382 -0.01146 0.02614 C -0.01406 0.03122 -0.01875 0.03423 -0.02135 0.03932 C -0.03333 0.06245 -0.05017 0.06938 -0.06892 0.0784 C -0.08785 0.09737 -0.08038 0.0865 -0.09184 0.11101 C -0.0934 0.11425 -0.09514 0.11679 -0.09687 0.11957 C -0.09896 0.12396 -0.1033 0.13298 -0.1033 0.13321 C -0.11267 0.12882 -0.12448 0.11841 -0.13298 0.11101 C -0.13923 0.10569 -0.17083 0.10246 -0.17552 0.10246 C -0.20295 0.10431 -0.225 0.10662 -0.2526 0.10454 C -0.26319 0.09737 -0.2743 0.09205 -0.28524 0.08465 C -0.2901 0.08141 -0.2967 0.06938 -0.2967 0.06962 C -0.29913 0.06036 -0.30816 0.04556 -0.30816 0.04556 C -0.31076 0.03701 -0.31458 0.02961 -0.31805 0.02174 C -0.32118 0.00509 -0.31753 0.02036 -0.32291 0.00625 C -0.32847 -0.00809 -0.33246 -0.02613 -0.33611 -0.04139 C -0.34253 -0.06868 -0.34739 -0.09667 -0.35243 -0.12442 C -0.35364 -0.14014 -0.35885 -0.16975 -0.35087 -0.18316 C -0.3467 -0.19033 -0.33889 -0.19264 -0.33281 -0.19634 C -0.32864 -0.19935 -0.32517 -0.20397 -0.32135 -0.20744 C -0.31597 -0.2123 -0.3092 -0.21415 -0.3033 -0.21808 C -0.2901 -0.22664 -0.25173 -0.22941 -0.24097 -0.23219 C -0.23212 -0.23311 -0.22205 -0.23427 -0.21319 -0.23774 C -0.20625 -0.24051 -0.20035 -0.2456 -0.1934 -0.24861 C -0.18854 -0.25115 -0.18351 -0.25323 -0.17864 -0.25532 C -0.17708 -0.25624 -0.17378 -0.2574 -0.17378 -0.25717 C -0.14271 -0.25485 -0.15538 -0.26063 -0.13437 -0.24653 C -0.13229 -0.24514 -0.13125 -0.2419 -0.12951 -0.24005 C -0.12587 -0.23612 -0.11805 -0.22941 -0.11805 -0.22918 C -0.11614 -0.22086 -0.10955 -0.21415 -0.10486 -0.20744 C -0.10121 -0.20189 -0.09722 -0.19704 -0.0934 -0.19195 C -0.09184 -0.18987 -0.08854 -0.18547 -0.08854 -0.18524 C -0.07916 -0.15402 -0.09149 -0.19079 -0.08038 -0.1679 C -0.07309 -0.15263 -0.06771 -0.13552 -0.06094 -0.12026 C -0.05677 -0.11054 -0.05191 -0.1043 -0.04913 -0.09389 C -0.04479 -0.04949 -0.02448 0.02221 -0.05434 0.04788 C -0.0618 0.06268 -0.06996 0.08349 -0.08368 0.08927 C -0.09566 0.10523 -0.09601 0.11841 -0.11319 0.12651 C -0.12569 0.1235 -0.1368 0.11656 -0.14913 0.11332 C -0.1816 0.10477 -0.21476 0.10569 -0.24757 0.10454 C -0.25521 0.10222 -0.26302 0.09922 -0.27048 0.09575 C -0.2743 0.09205 -0.27812 0.08858 -0.28194 0.08465 C -0.28663 0.08025 -0.2908 0.06892 -0.29514 0.06314 C -0.29757 0.05296 -0.30191 0.04556 -0.3066 0.03701 C -0.31111 0.01804 -0.30364 0.04672 -0.31319 0.02174 C -0.31493 0.01712 -0.31476 0.01134 -0.31649 0.00625 C -0.31892 -3.58926999999981E-006 -0.32066 -0.00693 -0.32291 -0.01318 C -0.32378 -0.01549 -0.32517 -0.01734 -0.32621 -0.01989 C -0.32743 -0.02243 -0.32847 -0.02544 -0.32951 -0.02844 C -0.33194 -0.03584 -0.33281 -0.04139 -0.33611 -0.0481 C -0.33854 -0.05758 -0.34028 -0.06753 -0.34271 -0.07655 C -0.34566 -0.10592 -0.34548 -0.13459 -0.33281 -0.15911 C -0.33003 -0.17483 -0.31892 -0.18709 -0.30816 -0.19403 C -0.2934 -0.21438 -0.27361 -0.23011 -0.25416 -0.24005 C -0.24114 -0.24699 -0.24062 -0.25208 -0.22465 -0.25532 C -0.22291 -0.25624 -0.22135 -0.25693 -0.21962 -0.2574 C -0.21632 -0.25832 -0.21302 -0.25832 -0.20989 -0.25994 C -0.20121 -0.26318 -0.19375 -0.27104 -0.18524 -0.27497 C -0.17101 -0.27428 -0.1566 -0.27613 -0.14271 -0.27266 C -0.13507 -0.27081 -0.12882 -0.25647 -0.12153 -0.253 C -0.11128 -0.23936 -0.10677 -0.22224 -0.09844 -0.20744 C -0.09653 -0.20397 -0.09392 -0.20189 -0.09184 -0.19842 C -0.07969 -0.17715 -0.07361 -0.15217 -0.0592 -0.13321 C -0.05729 -0.12511 -0.05364 -0.11887 -0.05087 -0.11147 C -0.05017 -0.10939 -0.05035 -0.10684 -0.04913 -0.10476 C -0.04739 -0.10199 -0.04479 -0.1006 -0.04288 -0.09829 C -0.03993 -0.08765 -0.03489 -0.08279 -0.02951 -0.07423 C -0.00885 -0.04162 -0.02743 -0.06753 -0.01476 -0.05018 C -0.01232 -0.04024 -0.01163 -0.03122 -0.00816 -0.0222 C -0.00868 -0.01248 -0.00833 -0.00277 -0.00989 0.00625 C -0.01059 0.00972 -0.01337 0.01226 -0.01476 0.01527 C -0.02135 0.02937 -0.02708 0.0451 -0.03767 0.05458 C -0.03871 0.05643 -0.03941 0.05921 -0.04114 0.06083 C -0.04236 0.06221 -0.04479 0.06152 -0.04601 0.06314 C -0.04722 0.06476 -0.04653 0.06753 -0.04774 0.06938 C -0.04896 0.07123 -0.05087 0.07239 -0.0526 0.07401 C -0.05607 0.08765 -0.06528 0.09459 -0.07552 0.09806 C -0.08368 0.1087 -0.09184 0.10916 -0.1033 0.11101 C -0.10955 0.11517 -0.11493 0.11772 -0.12153 0.11957 C -0.13958 0.13599 -0.15399 0.13368 -0.17708 0.13483 C -0.18194 0.13738 -0.18698 0.13946 -0.19184 0.14177 C -0.19618 0.14108 -0.20087 0.14177 -0.20486 0.13946 C -0.20729 0.13784 -0.20816 0.13368 -0.20989 0.1309 C -0.21406 0.12419 -0.21753 0.11818 -0.22291 0.11332 C -0.22882 0.10176 -0.24097 0.09344 -0.25087 0.08927 C -0.27066 0.06985 -0.24548 0.09297 -0.26389 0.08025 C -0.26823 0.07748 -0.27222 0.07193 -0.27552 0.06753 C -0.28298 0.04672 -0.27326 0.07054 -0.28524 0.0525 C -0.29114 0.04325 -0.29444 0.03122 -0.3 0.02174 C -0.30451 0.00509 -0.29791 0.02637 -0.3066 0.00856 C -0.30868 0.00486 -0.30868 -0.00023 -0.30989 -0.00439 C -0.31337 -0.0148 -0.31788 -0.02497 -0.32135 -0.03492 C -0.32378 -0.04209 -0.32361 -0.05018 -0.32621 -0.05689 C -0.32847 -0.0629 -0.33437 -0.07423 -0.33437 -0.074 C -0.3368 -0.08695 -0.33976 -0.09967 -0.34271 -0.11147 C -0.34375 -0.11586 -0.34601 -0.12442 -0.34601 -0.12419 C -0.34548 -0.13205 -0.34653 -0.13991 -0.34427 -0.14639 C -0.33976 -0.15957 -0.33038 -0.16119 -0.32135 -0.1635 C -0.32083 -0.16582 -0.32066 -0.16859 -0.31962 -0.17021 C -0.31632 -0.17576 -0.30121 -0.19727 -0.29514 -0.20305 C -0.29635 -0.21184 -0.30052 -0.2197 -0.29514 -0.22687 C -0.29166 -0.23219 -0.28958 -0.23219 -0.28524 -0.23335 C -0.28194 -0.23473 -0.27552 -0.23774 -0.27552 -0.23751 C -0.27326 -0.23335 -0.27118 -0.22941 -0.2691 -0.22479 C -0.26666 -0.22086 -0.26771 -0.21415 -0.2658 -0.20952 C -0.26458 -0.20698 -0.2625 -0.20513 -0.26076 -0.20305 C -0.26041 -0.20004 -0.25833 -0.1968 -0.2592 -0.19403 C -0.26076 -0.18802 -0.27153 -0.19542 -0.27378 -0.19634 C -0.27656 -0.19565 -0.27969 -0.19634 -0.28194 -0.19403 C -0.28507 -0.19079 -0.28854 -0.18131 -0.28854 -0.18108 C -0.29305 -0.14685 -0.28785 -0.18987 -0.29184 -0.11794 C -0.29201 -0.1154 -0.29479 -0.10569 -0.2967 -0.10476 C -0.30139 -0.10245 -0.3066 -0.10337 -0.31146 -0.10291 C -0.31319 -0.10199 -0.31493 -0.09944 -0.31649 -0.1006 C -0.3184 -0.10129 -0.31892 -0.10476 -0.31962 -0.10707 C -0.32291 -0.11771 -0.32344 -0.13136 -0.32465 -0.14199 C -0.32344 -0.15726 -0.32587 -0.16743 -0.31476 -0.17229 C -0.31319 -0.17368 -0.31128 -0.17483 -0.30989 -0.17668 C -0.30868 -0.17853 -0.30816 -0.18154 -0.3066 -0.18316 C -0.29896 -0.19149 -0.27552 -0.19866 -0.2658 -0.20305 C -0.25017 -0.21693 -0.23333 -0.22109 -0.21649 -0.23219 C -0.19635 -0.24329 -0.20989 -0.23728 -0.19844 -0.24213 C -0.18611 -0.23219 -0.19219 -0.2352 -0.18038 -0.22941 C -0.17448 -0.22086 -0.17031 -0.21808 -0.16232 -0.21369 C -0.15694 -0.20675 -0.1533 -0.20189 -0.14618 -0.19842 C -0.13298 -0.1857 -0.11771 -0.17229 -0.10173 -0.1679 C -0.08524 -0.14685 -0.1066 -0.17229 -0.09184 -0.15911 C -0.08507 -0.1531 -0.07951 -0.14523 -0.07239 -0.13991 C -0.06458 -0.13367 -0.05555 -0.12881 -0.04913 -0.12026 C -0.04357 -0.11239 -0.03854 -0.10407 -0.03281 -0.0962 C -0.0276 -0.0895 -0.03003 -0.08325 -0.02291 -0.07423 C -0.01979 -0.06151 -0.01441 -0.04787 -0.00816 -0.03723 C -0.00642 -0.02798 -0.00121 -0.02127 -1.66667E-006 -0.01318 C 0.0007 -0.00878 -1.66667E-006 -0.00439 -1.66667E-006 -3.58927E-006 E">
                                      <p:cBhvr>
                                        <p:cTn id="6" dur="2000" fill="hold"/>
                                        <p:tgtEl>
                                          <p:spTgt spid="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50000">
              <a:srgbClr val="000000"/>
            </a:gs>
            <a:gs pos="100000">
              <a:srgbClr val="ff3399"/>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8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cc00"/>
                </a:solidFill>
                <a:latin typeface="Arial"/>
              </a:rPr>
              <a:t>The gold rush started on the 1850’s. The chinese and Europeans came because of the gold rush the gold rush could be found in ballarat. Now thousands of people from all around the the world rushed for gold. People came because of the gold rush. If you wanted to dig for gold you had to pay money for a license and leave their job.</a:t>
            </a:r>
            <a:endParaRPr b="0" lang="en-US" sz="3400" spc="-1" strike="noStrike">
              <a:solidFill>
                <a:srgbClr val="000000"/>
              </a:solidFill>
              <a:latin typeface="Arial"/>
            </a:endParaRPr>
          </a:p>
        </p:txBody>
      </p:sp>
      <p:sp>
        <p:nvSpPr>
          <p:cNvPr id="46" name=""/>
          <p:cNvSpPr txBox="1"/>
          <p:nvPr/>
        </p:nvSpPr>
        <p:spPr>
          <a:xfrm>
            <a:off x="468360" y="189000"/>
            <a:ext cx="7991280" cy="1125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000000"/>
                  </a:solidFill>
                  <a:prstDash val="sysDot"/>
                  <a:miter/>
                </a:ln>
                <a:blipFill rotWithShape="0">
                  <a:blip r:embed="rId1"/>
                  <a:srcRect/>
                  <a:tile tx="0" ty="0" sx="100000" sy="100000" algn="ctr"/>
                </a:blipFill>
                <a:effectLst>
                  <a:outerShdw dist="40186" dir="1096358" blurRad="0" rotWithShape="0">
                    <a:srgbClr val="808080">
                      <a:alpha val="80000"/>
                    </a:srgbClr>
                  </a:outerShdw>
                </a:effectLst>
                <a:latin typeface="Arial Black"/>
              </a:rPr>
              <a:t>GOLD RUSH</a:t>
            </a:r>
            <a:endParaRPr b="1" lang="en-US" sz="4400" spc="1" strike="noStrike">
              <a:ln w="12600">
                <a:solidFill>
                  <a:srgbClr val="000000"/>
                </a:solidFill>
                <a:prstDash val="sysDot"/>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pic>
        <p:nvPicPr>
          <p:cNvPr id="47" name="" descr=""/>
          <p:cNvPicPr/>
          <p:nvPr/>
        </p:nvPicPr>
        <p:blipFill>
          <a:blip r:embed="rId3"/>
          <a:stretch/>
        </p:blipFill>
        <p:spPr>
          <a:xfrm>
            <a:off x="7812000" y="1197000"/>
            <a:ext cx="1077840" cy="12700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45">
                                            <p:txEl>
                                              <p:pRg st="0" end="0"/>
                                            </p:txEl>
                                          </p:spTgt>
                                        </p:tgtEl>
                                        <p:attrNameLst>
                                          <p:attrName>style.visibility</p:attrName>
                                        </p:attrNameLst>
                                      </p:cBhvr>
                                      <p:to>
                                        <p:strVal val="visible"/>
                                      </p:to>
                                    </p:set>
                                    <p:animEffect filter="blinds(horizontal)" transition="in">
                                      <p:cBhvr additive="repl">
                                        <p:cTn id="13"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99cc00"/>
            </a:gs>
            <a:gs pos="100000">
              <a:srgbClr val="0000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1f5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1f5ef"/>
                </a:solidFill>
                <a:latin typeface="Arial"/>
              </a:rPr>
              <a:t>They discovered gold rush in Ballarat and Bendigo.  All miners came to Australia to search for gold.  You had to pan in the lake to find the gold.</a:t>
            </a:r>
            <a:endParaRPr b="0" lang="en-US" sz="3200" spc="-1" strike="noStrike">
              <a:solidFill>
                <a:srgbClr val="000000"/>
              </a:solidFill>
              <a:latin typeface="Arial"/>
            </a:endParaRPr>
          </a:p>
        </p:txBody>
      </p:sp>
      <p:sp>
        <p:nvSpPr>
          <p:cNvPr id="50" name=""/>
          <p:cNvSpPr txBox="1"/>
          <p:nvPr/>
        </p:nvSpPr>
        <p:spPr>
          <a:xfrm>
            <a:off x="250920" y="404640"/>
            <a:ext cx="8316720" cy="762120"/>
          </a:xfrm>
          <a:prstGeom prst="rect">
            <a:avLst/>
          </a:prstGeom>
        </p:spPr>
        <p:txBody>
          <a:bodyPr wrap="none" lIns="90000" rIns="90000" tIns="46800" bIns="46800" anchor="t" anchorCtr="1">
            <a:prstTxWarp prst="textPlain">
              <a:avLst>
                <a:gd name="adj" fmla="val 537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0">
                  <a:noFill/>
                </a:ln>
                <a:gradFill rotWithShape="0">
                  <a:gsLst>
                    <a:gs pos="0">
                      <a:srgbClr val="ff00ff"/>
                    </a:gs>
                    <a:gs pos="50000">
                      <a:srgbClr val="00ff00"/>
                    </a:gs>
                    <a:gs pos="100000">
                      <a:srgbClr val="ff00ff"/>
                    </a:gs>
                  </a:gsLst>
                  <a:lin ang="5400000"/>
                </a:gradFill>
                <a:effectLst>
                  <a:outerShdw dist="17819" dir="2700000" blurRad="0" rotWithShape="0">
                    <a:srgbClr val="c0c0c0">
                      <a:alpha val="80000"/>
                    </a:srgbClr>
                  </a:outerShdw>
                </a:effectLst>
                <a:latin typeface="Impact"/>
              </a:rPr>
              <a:t>GOLD RUSH IN AUSTRALIA</a:t>
            </a:r>
            <a:endParaRPr b="1" lang="en-US" sz="4800" spc="1" strike="noStrike">
              <a:ln w="0">
                <a:noFill/>
              </a:ln>
              <a:gradFill rotWithShape="0">
                <a:gsLst>
                  <a:gs pos="0">
                    <a:srgbClr val="ff00ff"/>
                  </a:gs>
                  <a:gs pos="50000">
                    <a:srgbClr val="00ff00"/>
                  </a:gs>
                  <a:gs pos="100000">
                    <a:srgbClr val="ff00ff"/>
                  </a:gs>
                </a:gsLst>
                <a:lin ang="5400000"/>
              </a:gradFill>
              <a:effectLst>
                <a:outerShdw dist="17819" dir="2700000" blurRad="0" rotWithShape="0">
                  <a:srgbClr val="c0c0c0">
                    <a:alpha val="80000"/>
                  </a:srgbClr>
                </a:outerShdw>
              </a:effectLst>
              <a:latin typeface="Impact"/>
              <a:ea typeface="Impact"/>
            </a:endParaRPr>
          </a:p>
        </p:txBody>
      </p:sp>
      <p:pic>
        <p:nvPicPr>
          <p:cNvPr id="51" name="" descr=""/>
          <p:cNvPicPr/>
          <p:nvPr/>
        </p:nvPicPr>
        <p:blipFill>
          <a:blip r:embed="rId1"/>
          <a:stretch/>
        </p:blipFill>
        <p:spPr>
          <a:xfrm>
            <a:off x="179280" y="3716280"/>
            <a:ext cx="5400720" cy="2718000"/>
          </a:xfrm>
          <a:prstGeom prst="rect">
            <a:avLst/>
          </a:prstGeom>
          <a:ln w="0">
            <a:noFill/>
          </a:ln>
        </p:spPr>
      </p:pic>
      <p:pic>
        <p:nvPicPr>
          <p:cNvPr id="52" name="" descr="Flag of Australia and Cocos Islands Waving Animation">
            <a:hlinkClick r:id="rId2"/>
          </p:cNvPr>
          <p:cNvPicPr/>
          <p:nvPr/>
        </p:nvPicPr>
        <p:blipFill>
          <a:blip r:embed="rId3"/>
          <a:stretch/>
        </p:blipFill>
        <p:spPr>
          <a:xfrm>
            <a:off x="6156360" y="4076640"/>
            <a:ext cx="2087640" cy="208764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xit" presetID="3" presetSubtype="10">
                                  <p:stCondLst>
                                    <p:cond delay="0"/>
                                  </p:stCondLst>
                                  <p:childTnLst>
                                    <p:animEffect filter="blinds(horizontal)" transition="out">
                                      <p:cBhvr additive="repl">
                                        <p:cTn id="19" dur="500"/>
                                        <p:tgtEl>
                                          <p:spTgt spid="51"/>
                                        </p:tgtEl>
                                      </p:cBhvr>
                                    </p:animEffect>
                                    <p:set>
                                      <p:cBhvr>
                                        <p:cTn id="20" dur="1" fill="hold">
                                          <p:stCondLst>
                                            <p:cond delay="4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now have to mine for gold in the mines.</a:t>
            </a:r>
            <a:endParaRPr b="0" lang="en-US" sz="3200" spc="-1" strike="noStrike">
              <a:solidFill>
                <a:srgbClr val="000000"/>
              </a:solidFill>
              <a:latin typeface="Arial"/>
            </a:endParaRPr>
          </a:p>
        </p:txBody>
      </p:sp>
      <p:sp>
        <p:nvSpPr>
          <p:cNvPr id="55" name=""/>
          <p:cNvSpPr txBox="1"/>
          <p:nvPr/>
        </p:nvSpPr>
        <p:spPr>
          <a:xfrm>
            <a:off x="1042920" y="333360"/>
            <a:ext cx="65534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ffcc00"/>
                </a:solidFill>
                <a:effectLst>
                  <a:outerShdw dist="17819" dir="2700000" blurRad="0" rotWithShape="0">
                    <a:srgbClr val="990000"/>
                  </a:outerShdw>
                </a:effectLst>
                <a:latin typeface="BatangChe"/>
              </a:rPr>
              <a:t>GOLD RUSH</a:t>
            </a:r>
            <a:endParaRPr b="1" lang="en-US" sz="1800" spc="1" strike="noStrike">
              <a:ln w="19080">
                <a:solidFill>
                  <a:srgbClr val="99ccff"/>
                </a:solidFill>
                <a:miter/>
              </a:ln>
              <a:solidFill>
                <a:srgbClr val="ffcc00"/>
              </a:solidFill>
              <a:effectLst>
                <a:outerShdw dist="17819" dir="2700000" blurRad="0" rotWithShape="0">
                  <a:srgbClr val="990000"/>
                </a:outerShdw>
              </a:effectLst>
              <a:latin typeface="BatangChe"/>
              <a:ea typeface="BatangChe"/>
            </a:endParaRPr>
          </a:p>
        </p:txBody>
      </p:sp>
      <p:pic>
        <p:nvPicPr>
          <p:cNvPr id="56" name="" descr=""/>
          <p:cNvPicPr/>
          <p:nvPr/>
        </p:nvPicPr>
        <p:blipFill>
          <a:blip r:embed="rId1"/>
          <a:stretch/>
        </p:blipFill>
        <p:spPr>
          <a:xfrm>
            <a:off x="3962520" y="2824200"/>
            <a:ext cx="2985840" cy="2962080"/>
          </a:xfrm>
          <a:prstGeom prst="rect">
            <a:avLst/>
          </a:prstGeom>
          <a:ln w="0">
            <a:noFill/>
          </a:ln>
        </p:spPr>
      </p:pic>
    </p:spTree>
  </p:cSld>
  <p:transition spd="slow">
    <p:wheel spokes="8"/>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2">
                                  <p:stCondLst>
                                    <p:cond delay="0"/>
                                  </p:stCondLst>
                                  <p:childTnLst>
                                    <p:set>
                                      <p:cBhvr>
                                        <p:cTn id="26" dur="indefinite"/>
                                        <p:tgtEl>
                                          <p:spTgt spid="54">
                                            <p:txEl>
                                              <p:pRg st="0" end="0"/>
                                            </p:txEl>
                                          </p:spTgt>
                                        </p:tgtEl>
                                        <p:attrNameLst>
                                          <p:attrName>style.fontFamily</p:attrName>
                                        </p:attrNameLst>
                                      </p:cBhvr>
                                      <p:to>
                                        <p:strVal val="Times New Roma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8" name=""/>
          <p:cNvSpPr txBox="1"/>
          <p:nvPr/>
        </p:nvSpPr>
        <p:spPr>
          <a:xfrm>
            <a:off x="539640" y="476280"/>
            <a:ext cx="828036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3366ff"/>
                    </a:gs>
                    <a:gs pos="50000">
                      <a:srgbClr val="ff3399"/>
                    </a:gs>
                    <a:gs pos="100000">
                      <a:srgbClr val="3366ff"/>
                    </a:gs>
                  </a:gsLst>
                  <a:lin ang="8100000"/>
                </a:gradFill>
                <a:effectLst>
                  <a:outerShdw dist="153753" dir="2700000" blurRad="0" rotWithShape="0">
                    <a:srgbClr val="c0c0c0">
                      <a:alpha val="80000"/>
                    </a:srgbClr>
                  </a:outerShdw>
                </a:effectLst>
                <a:latin typeface="Arial Black"/>
              </a:rPr>
              <a:t>GOLD RUSH PICTURES</a:t>
            </a:r>
            <a:endParaRPr b="1" lang="en-US" sz="1800" spc="1" strike="noStrike">
              <a:ln w="12600">
                <a:solidFill>
                  <a:srgbClr val="eaeaea"/>
                </a:solidFill>
                <a:miter/>
              </a:ln>
              <a:gradFill rotWithShape="0">
                <a:gsLst>
                  <a:gs pos="0">
                    <a:srgbClr val="3366ff"/>
                  </a:gs>
                  <a:gs pos="50000">
                    <a:srgbClr val="ff3399"/>
                  </a:gs>
                  <a:gs pos="100000">
                    <a:srgbClr val="3366ff"/>
                  </a:gs>
                </a:gsLst>
                <a:lin ang="8100000"/>
              </a:gradFill>
              <a:effectLst>
                <a:outerShdw dist="153753" dir="2700000" blurRad="0" rotWithShape="0">
                  <a:srgbClr val="c0c0c0">
                    <a:alpha val="80000"/>
                  </a:srgbClr>
                </a:outerShdw>
              </a:effectLst>
              <a:latin typeface="Arial Black"/>
              <a:ea typeface="Arial Black"/>
            </a:endParaRPr>
          </a:p>
        </p:txBody>
      </p:sp>
      <p:pic>
        <p:nvPicPr>
          <p:cNvPr id="59" name="" descr=""/>
          <p:cNvPicPr/>
          <p:nvPr/>
        </p:nvPicPr>
        <p:blipFill>
          <a:blip r:embed="rId2"/>
          <a:stretch/>
        </p:blipFill>
        <p:spPr>
          <a:xfrm>
            <a:off x="611280" y="4005360"/>
            <a:ext cx="4176720" cy="2708280"/>
          </a:xfrm>
          <a:prstGeom prst="rect">
            <a:avLst/>
          </a:prstGeom>
          <a:ln w="0">
            <a:noFill/>
          </a:ln>
        </p:spPr>
      </p:pic>
      <p:pic>
        <p:nvPicPr>
          <p:cNvPr id="60" name="" descr="Australian gold rush diggers"/>
          <p:cNvPicPr/>
          <p:nvPr/>
        </p:nvPicPr>
        <p:blipFill>
          <a:blip r:embed="rId3"/>
          <a:stretch/>
        </p:blipFill>
        <p:spPr>
          <a:xfrm>
            <a:off x="611280" y="1557360"/>
            <a:ext cx="4228920" cy="2419200"/>
          </a:xfrm>
          <a:prstGeom prst="rect">
            <a:avLst/>
          </a:prstGeom>
          <a:ln w="0">
            <a:noFill/>
          </a:ln>
        </p:spPr>
      </p:pic>
      <p:pic>
        <p:nvPicPr>
          <p:cNvPr id="61" name="" descr="Nerrena Fossickers in Nerrena Creek outside Ballarat">
            <a:hlinkClick r:id="rId4"/>
          </p:cNvPr>
          <p:cNvPicPr/>
          <p:nvPr/>
        </p:nvPicPr>
        <p:blipFill>
          <a:blip r:embed="rId5"/>
          <a:stretch/>
        </p:blipFill>
        <p:spPr>
          <a:xfrm>
            <a:off x="5364000" y="1268280"/>
            <a:ext cx="3384720" cy="5185080"/>
          </a:xfrm>
          <a:prstGeom prst="rect">
            <a:avLst/>
          </a:prstGeom>
          <a:ln w="0">
            <a:noFill/>
          </a:ln>
        </p:spPr>
      </p:pic>
    </p:spTree>
  </p:cSld>
  <p:transition advTm="3000">
    <p:checker dir="horz"/>
    <p:sndAc>
      <p:stSnd>
        <p:snd r:embed="rId6" name="bomb.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31T23:46:09Z</dcterms:created>
  <dc:creator>room17</dc:creator>
  <dc:description/>
  <dc:language>en-US</dc:language>
  <cp:lastModifiedBy>room17</cp:lastModifiedBy>
  <dcterms:modified xsi:type="dcterms:W3CDTF">2008-09-12T00:47:06Z</dcterms:modified>
  <cp:revision>10</cp:revision>
  <dc:subject/>
  <dc:title>Slide 1</dc:title>
</cp:coreProperties>
</file>